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07250" cy="7207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17A5-65ED-45F8-80DF-46969F264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648504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0360" y="4165200"/>
            <a:ext cx="648504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54A9-0F71-4A27-B88C-0B00029C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036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8352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8538-255D-4EA2-9FD5-5021E27ED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53120" y="168084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45880" y="168084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0360" y="416520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53120" y="416520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45880" y="416520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8A70-8449-4198-B866-9464266C2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0360" y="1680840"/>
            <a:ext cx="648504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9A8E-8A06-4B12-B59C-95DA2F84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648504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8F5E-93A8-48D1-BED2-466ACF07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1F25-4E32-41D6-97A4-E0A2A59A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7D7D-862D-4582-964B-5E85EA44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360" y="288720"/>
            <a:ext cx="648504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22E6-A9D7-46B8-93E7-C6619F67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036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6E8B-073C-4443-AE9C-71CCC632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8352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38A2-AC1C-45EB-B8C4-A5012D77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0360" y="4165200"/>
            <a:ext cx="648504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01CC-27DF-4B85-8B0F-B6733A5F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360" y="1680840"/>
            <a:ext cx="648504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60360" y="6678360"/>
            <a:ext cx="16812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61680" y="6678360"/>
            <a:ext cx="228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64200" y="6678360"/>
            <a:ext cx="16812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B8A6AC-791F-46C1-B55B-DD310BDD9E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290520" y="290520"/>
            <a:ext cx="6642000" cy="6642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 rot="10800000">
            <a:off x="1239480" y="1299960"/>
            <a:ext cx="795240" cy="2189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651200" y="4224240"/>
            <a:ext cx="795600" cy="218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239840" y="3489480"/>
            <a:ext cx="4206960" cy="734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3T13:44:51Z</dcterms:created>
  <dc:creator>t</dc:creator>
  <dc:description/>
  <dc:language>en-US</dc:language>
  <cp:lastModifiedBy>t</cp:lastModifiedBy>
  <dcterms:modified xsi:type="dcterms:W3CDTF">2018-05-23T13:59:07Z</dcterms:modified>
  <cp:revision>5</cp:revision>
  <dc:subject/>
  <dc:title>PowerPoint Presentation</dc:title>
</cp:coreProperties>
</file>