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07250" cy="7207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63D6-3940-413A-8E6B-732FBDBA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093A-5818-4F7B-9539-BB3A2386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56F-764B-4C26-A8E0-A9CEEC7E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312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588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312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588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761-FEE1-4F1B-A973-65B46FBB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FA0B-7BC4-4725-B199-12BB3F09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FB76-BAD2-439A-99DA-9D6BD13D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ABE-C5B8-472D-B6F5-F7FCC593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BE8-026B-4F90-AECD-998DFB3B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288720"/>
            <a:ext cx="648504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BE1-35AC-4635-8167-BFD43E70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3D95-6B2B-4522-85CF-2FA25FAF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9246-036D-4EE4-976C-57601CC1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D09-99CA-4E6F-A51B-76CD7DD9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36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1680" y="6678360"/>
            <a:ext cx="228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420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58F1C-12F5-475E-9189-347BCD2B2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90520" y="290520"/>
            <a:ext cx="6642000" cy="6642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 rot="10800000">
            <a:off x="1239480" y="1299960"/>
            <a:ext cx="795240" cy="21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51200" y="4224240"/>
            <a:ext cx="795600" cy="218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39840" y="3489480"/>
            <a:ext cx="4206960" cy="73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44:51Z</dcterms:created>
  <dc:creator>t</dc:creator>
  <dc:description/>
  <dc:language>en-US</dc:language>
  <cp:lastModifiedBy>t</cp:lastModifiedBy>
  <dcterms:modified xsi:type="dcterms:W3CDTF">2018-05-23T13:59:07Z</dcterms:modified>
  <cp:revision>5</cp:revision>
  <dc:subject/>
  <dc:title>PowerPoint Presentation</dc:title>
</cp:coreProperties>
</file>