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07250" cy="72072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2583-B45E-4527-B5B3-BAEE4E6F7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360" y="416520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9283-C1D2-45D9-BAEF-256A9C26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8352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77FA-32E5-4A00-B840-793107D1F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55312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45880" y="168084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36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55312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45880" y="4165200"/>
            <a:ext cx="20880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1478-7CF3-4785-B52E-94E2D5EC6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C0FF-1BF4-4E40-806A-CAF9B8AA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8016-4DA6-481D-BE49-CAC5AEB8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3FE3-8585-4AA9-B9D8-720296065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D3C3-8F47-4B4B-88A6-9685EA703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288720"/>
            <a:ext cx="6485040" cy="556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E2C6-DFBE-4AD3-BB49-6908B30F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971F-7DF2-4EDE-884B-8EA81EBA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83520" y="416520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AF09-5BC9-4FBC-9234-909AA749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36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83520" y="1680840"/>
            <a:ext cx="31644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360" y="4165200"/>
            <a:ext cx="648504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7D42-03CE-4B56-A1AC-A889A9CEA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288720"/>
            <a:ext cx="6485040" cy="11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360" y="1680840"/>
            <a:ext cx="6485040" cy="47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60360" y="6678360"/>
            <a:ext cx="16812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61680" y="6678360"/>
            <a:ext cx="228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64200" y="6678360"/>
            <a:ext cx="16812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C431FF-1897-46DC-8D65-874F702B1F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290520" y="290520"/>
            <a:ext cx="6642000" cy="6642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 rot="10800000">
            <a:off x="1239480" y="1299960"/>
            <a:ext cx="795240" cy="2189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4651200" y="4224240"/>
            <a:ext cx="795600" cy="2187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1239840" y="3489480"/>
            <a:ext cx="4206960" cy="734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23T13:44:51Z</dcterms:created>
  <dc:creator>t</dc:creator>
  <dc:description/>
  <dc:language>en-US</dc:language>
  <cp:lastModifiedBy>t</cp:lastModifiedBy>
  <dcterms:modified xsi:type="dcterms:W3CDTF">2018-05-23T13:59:07Z</dcterms:modified>
  <cp:revision>5</cp:revision>
  <dc:subject/>
  <dc:title>PowerPoint Presentation</dc:title>
</cp:coreProperties>
</file>